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7.jpeg" ContentType="image/jpeg"/>
  <Override PartName="/ppt/media/image5.wmf" ContentType="image/x-wmf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15.jpeg" ContentType="image/jpeg"/>
  <Override PartName="/ppt/media/image14.wmf" ContentType="image/x-wmf"/>
  <Override PartName="/ppt/media/image13.wmf" ContentType="image/x-wmf"/>
  <Override PartName="/ppt/media/image17.jpeg" ContentType="image/jpeg"/>
  <Override PartName="/ppt/media/image11.wmf" ContentType="image/x-wmf"/>
  <Override PartName="/ppt/media/image1.jpeg" ContentType="image/jpeg"/>
  <Override PartName="/ppt/media/image16.jpeg" ContentType="image/jpeg"/>
  <Override PartName="/ppt/media/chimes.wav" ContentType="audio/x-wav"/>
  <Override PartName="/ppt/media/laser.wav" ContentType="audio/x-wav"/>
  <Override PartName="/ppt/media/image12.wmf" ContentType="image/x-wmf"/>
  <Override PartName="/ppt/media/image8.png" ContentType="image/png"/>
  <Override PartName="/ppt/media/carbrake.wav" ContentType="audio/x-wav"/>
  <Override PartName="/ppt/media/drumroll.wav" ContentType="audio/x-wav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3570-74AF-4875-85F6-32D405A45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509D-C723-4D20-A4CC-BA6509FF2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053A-C984-47E6-ADC6-59C835310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24A8-867A-4722-B5F4-1EA599B5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C87-0963-4F01-AB86-F39083DB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CC3-FAAD-46DC-9810-C8DF575F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8B4-3D44-4862-A978-E30776C5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B9C-982B-4031-AAC0-9491C116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726-4E99-4DC3-B013-1BA36F49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165-D6B0-4E05-A0AC-7BD6D5A9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0450-58B3-4768-BB42-70F3C4DB2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53AC-89EA-472F-B483-EC2BB277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2F40-213A-4C77-8012-A59C39E1B7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audio" Target="../media/laser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carbrake.wav"/><Relationship Id="rId10" Type="http://schemas.openxmlformats.org/officeDocument/2006/relationships/audio" Target="../media/drumroll.wav"/><Relationship Id="rId11" Type="http://schemas.openxmlformats.org/officeDocument/2006/relationships/audio" Target="../media/laser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" Target="slide11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image" Target="../media/image8.png"/><Relationship Id="rId15" Type="http://schemas.openxmlformats.org/officeDocument/2006/relationships/slide" Target="slide8.xml"/><Relationship Id="rId16" Type="http://schemas.openxmlformats.org/officeDocument/2006/relationships/image" Target="../media/image8.png"/><Relationship Id="rId17" Type="http://schemas.openxmlformats.org/officeDocument/2006/relationships/slide" Target="slide10.xml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3716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沪教牛津（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0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版）五年级下册英语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00200" y="3505320"/>
            <a:ext cx="5657760" cy="13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Unit 1 Use your eyes 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43120" y="1981080"/>
            <a:ext cx="83008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able is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twe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dresser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952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…和…中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72200" y="2895480"/>
            <a:ext cx="2647800" cy="2895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71600" y="5562720"/>
            <a:ext cx="6568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table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betwe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resser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a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029200" y="3048120"/>
            <a:ext cx="2362320" cy="45720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685800" y="2819520"/>
            <a:ext cx="4495680" cy="17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7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between...and...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153280" cy="76212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n is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i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12200" y="46483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……里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791320" y="2819520"/>
            <a:ext cx="2394000" cy="2743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295280" y="5638680"/>
            <a:ext cx="63406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man </a:t>
            </a: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809880"/>
            <a:ext cx="243828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905120" y="2819520"/>
            <a:ext cx="1676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90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i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hecker dir="horz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rcRect l="44624" t="40169" r="9449" b="17146"/>
          <a:stretch/>
        </p:blipFill>
        <p:spPr>
          <a:xfrm>
            <a:off x="4876920" y="4343400"/>
            <a:ext cx="4038480" cy="25146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rcRect l="57745" t="8329" r="4202" b="56333"/>
          <a:stretch/>
        </p:blipFill>
        <p:spPr>
          <a:xfrm>
            <a:off x="4876920" y="1676520"/>
            <a:ext cx="4038480" cy="2361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rcRect l="9449" t="39188" r="52498" b="24493"/>
          <a:stretch/>
        </p:blipFill>
        <p:spPr>
          <a:xfrm>
            <a:off x="457200" y="434340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8305920" cy="7621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rcis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5"/>
          <a:srcRect l="15748" t="0" r="46198" b="61230"/>
          <a:stretch/>
        </p:blipFill>
        <p:spPr>
          <a:xfrm>
            <a:off x="380880" y="1676520"/>
            <a:ext cx="4114800" cy="2420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09480" y="152388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Times New Roman"/>
              </a:rPr>
              <a:t>kit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din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38680" y="6019920"/>
            <a:ext cx="230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bath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537240" y="114300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living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4267080" cy="7134120"/>
          </a:xfrm>
          <a:prstGeom prst="rect">
            <a:avLst/>
          </a:prstGeom>
          <a:solidFill>
            <a:srgbClr val="ffffff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汉译英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我是莉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我们是男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是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们在孟河中学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我每天洗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你有时乘车回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8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们通常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吃午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9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她经常帮助别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总是起的很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尼克在周末参观博物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52680" y="5335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29000" y="1066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29000" y="16002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21337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tu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29000" y="26668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ou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zh-CN" sz="2400" spc="-1" strike="noStrike">
                <a:solidFill>
                  <a:srgbClr val="ff0000"/>
                </a:solidFill>
                <a:latin typeface="Tahoma"/>
              </a:rPr>
              <a:t>stud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at Menghe Secondary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32767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w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dishes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429000" y="3809880"/>
            <a:ext cx="487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tak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bus h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9880" y="43434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usua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have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nch at 11: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4952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help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4864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g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p ea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6019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k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visi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eums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at weeke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886200" cy="116928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ings are alway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客观事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20040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ings are tru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符合现在事实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080" y="0"/>
            <a:ext cx="4876920" cy="116928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Things we do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经常、习惯、反复做的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106668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ly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o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moon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goes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the earth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343400"/>
            <a:ext cx="3276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0" i="1" lang="zh-CN" sz="2400" spc="-1" strike="noStrike">
                <a:solidFill>
                  <a:srgbClr val="ff0000"/>
                </a:solidFill>
                <a:latin typeface="Tahoma"/>
              </a:rPr>
              <a:t>are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0" i="1" lang="zh-CN" sz="2400" spc="-1" strike="noStrike">
                <a:solidFill>
                  <a:srgbClr val="ff0000"/>
                </a:solidFill>
                <a:latin typeface="Tahoma"/>
              </a:rPr>
              <a:t>is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 student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You</a:t>
            </a:r>
            <a:r>
              <a:rPr b="0" i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study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 at Menghe Secondary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1295280"/>
            <a:ext cx="41148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was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dishes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every d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tak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us hom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usuall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av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unch at 11: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elp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e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p ear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ick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si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seums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at</a:t>
            </a: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weeken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</a:t>
            </a:r>
            <a:r>
              <a:rPr b="0" i="1" lang="en-US" sz="2400" spc="-1" strike="noStrike">
                <a:solidFill>
                  <a:srgbClr val="009999"/>
                </a:solidFill>
                <a:latin typeface="Tahoma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Tahoma"/>
              </a:rPr>
              <a:t>ofte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ate for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905120"/>
            <a:ext cx="533160" cy="435996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一般现在时的三种用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3880" y="228600"/>
            <a:ext cx="63248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The Simple Present Tense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一 般 现 在 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81080"/>
            <a:ext cx="914400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 般 现 在 时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Simple Present Tens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用来表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客观事实；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符合现在事实情况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常、习惯、反复做的事情，常与表示凭率的时间词连用，如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very 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metim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ft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usual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way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n Sunday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:  am,  is,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义动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主语是第一、二、三人称复数时 用原形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语是第三人称单数时用动词的三单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43000" y="6858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you get the rules of verb “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cuss with your partners and get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4920" y="2057400"/>
            <a:ext cx="85341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You / we /they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 /she/ it/ the  third person single form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228600" y="14479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05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0532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124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4114800"/>
            <a:ext cx="89154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ou…?           Yes, I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No, I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ou…?            Yes, we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No, we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n’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I /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ou…?               Yes, you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No, you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n’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he/she/it…?      Yes, he/she/it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i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No, he/she/it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isn’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they…?             Yes, they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 No, they 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aren’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981080" y="2057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14800" y="2590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not  (are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124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not    (isn’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228600"/>
            <a:ext cx="7315200" cy="178992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.We 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ud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at Menghe Secondar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.I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wash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the dishes every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.You sometimes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 bus h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4.They usually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have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lunch at 11: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24382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Times New Roman"/>
              </a:rPr>
              <a:t>don’t</a:t>
            </a:r>
            <a:r>
              <a:rPr b="0" i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ud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at Menghe Secondary Scho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289548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dishes </a:t>
            </a:r>
            <a:r>
              <a:rPr b="0" lang="en-US" sz="2000" spc="-1" strike="noStrike">
                <a:solidFill>
                  <a:srgbClr val="808080"/>
                </a:solidFill>
                <a:latin typeface="Times New Roman"/>
              </a:rPr>
              <a:t>every 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32767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tim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bus ho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38080" y="373392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u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nch at 11:3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4956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99cc00"/>
                </a:solidFill>
                <a:latin typeface="Times New Roman"/>
              </a:rPr>
              <a:t>you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study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at Menghe Secondary School</a:t>
            </a:r>
            <a:r>
              <a:rPr b="0" lang="zh-CN" sz="2000" spc="-1" strike="noStrike">
                <a:solidFill>
                  <a:srgbClr val="009999"/>
                </a:solidFill>
                <a:latin typeface="Times New Roman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Yes, we </a:t>
            </a:r>
            <a:r>
              <a:rPr b="0" lang="zh-CN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 / No, we </a:t>
            </a:r>
            <a:r>
              <a:rPr b="0" lang="zh-CN" sz="2000" spc="-1" strike="noStrike">
                <a:solidFill>
                  <a:srgbClr val="009999"/>
                </a:solidFill>
                <a:latin typeface="Times New Roman"/>
              </a:rPr>
              <a:t>don’t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95288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yo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sh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shes every day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Yes, I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/   No, I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54100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cc00"/>
                </a:solidFill>
                <a:latin typeface="Times New Roman"/>
              </a:rPr>
              <a:t>w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ometime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ak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bus home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Yes, you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/    No, you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586728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y usually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av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unch at 11:30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?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Yes, they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/    No, they </a:t>
            </a:r>
            <a:r>
              <a:rPr b="0" lang="en-US" sz="2000" spc="-1" strike="noStrike">
                <a:solidFill>
                  <a:srgbClr val="009999"/>
                </a:solidFill>
                <a:latin typeface="Times New Roman"/>
              </a:rPr>
              <a:t>don’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895480" y="838080"/>
            <a:ext cx="3286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Conclusion: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66688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 / We / You / They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d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 / We / You / They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don’t d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…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 / we / you / they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…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Yes, I /we/you/they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, I /we/you/they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do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914400" y="685800"/>
            <a:ext cx="31240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她喜欢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每天吃早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经常看电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她星期天放风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他很想念母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1440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like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90720" y="2362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ha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breakfast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43000" y="3352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often watch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4572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e fl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kite on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715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miss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is mother very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391520" y="1219320"/>
            <a:ext cx="138744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09120" y="57909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Use your eyes,Jenn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房间里都有什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看谁能用最短的时间记得又多又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0" t="0" r="0" b="47509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380880" y="914400"/>
          <a:ext cx="8458200" cy="3579840"/>
        </p:xfrm>
        <a:graphic>
          <a:graphicData uri="http://schemas.openxmlformats.org/drawingml/2006/table">
            <a:tbl>
              <a:tblPr/>
              <a:tblGrid>
                <a:gridCol w="2819520"/>
                <a:gridCol w="2133720"/>
                <a:gridCol w="35049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ver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----tal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---loo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with </a:t>
                      </a: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sonant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y+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y---fl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440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ing in ss,ch,sh or 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ss--- mi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ch---wat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h----was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x---fix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0" name=""/>
          <p:cNvSpPr/>
          <p:nvPr/>
        </p:nvSpPr>
        <p:spPr>
          <a:xfrm>
            <a:off x="457200" y="457524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                          carry                         go                 bring                          play                        watch           fly                              do                           wash        study                          help                        visit     exercise                         enjoy                      jump    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read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19720" y="45720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carr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162920" y="4572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go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5029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bring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play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02920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watch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33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fl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53341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do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2578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wash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9528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stud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495680" y="5715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help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visit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23880" y="6019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exercise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6095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enjoy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6019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jump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6400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 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457200"/>
            <a:ext cx="4648320" cy="324072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lik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ha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eakfast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wat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f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ites on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mi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/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95680" y="274320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n’t mi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/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563868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mis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/her m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9880" y="144792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28800" y="30481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105520" y="6019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nk about “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43400" y="44956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, he/sh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No, he/she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oes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19720" y="457200"/>
            <a:ext cx="4419360" cy="459720"/>
          </a:xfrm>
          <a:prstGeom prst="rect">
            <a:avLst/>
          </a:prstGeom>
          <a:solidFill>
            <a:srgbClr val="ffffff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n’t 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9144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n’t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eakfast every 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495680" y="16765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n’t w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495680" y="220968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n’t f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ites on Sun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581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lik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d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40384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eakfast every 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724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wat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V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51814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Does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he/she </a:t>
            </a:r>
            <a:r>
              <a:rPr b="0" lang="en-US" sz="2400" spc="-1" strike="noStrike">
                <a:solidFill>
                  <a:srgbClr val="ff33cc"/>
                </a:solidFill>
                <a:latin typeface="Times New Roman"/>
              </a:rPr>
              <a:t>f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kites on Sun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2666880"/>
            <a:ext cx="678168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/She/It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/She/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n’t 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/she/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 he/she/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No, he/she/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oesn’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19520" y="1066680"/>
            <a:ext cx="328608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Bookman Old Style"/>
              </a:rPr>
              <a:t>Conclusion:</a:t>
            </a:r>
            <a:endParaRPr b="0" lang="en-US" sz="4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09480" y="457200"/>
            <a:ext cx="7925040" cy="4383720"/>
          </a:xfrm>
          <a:prstGeom prst="rect">
            <a:avLst/>
          </a:prstGeom>
          <a:solidFill>
            <a:srgbClr val="ffff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Fill in the blan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Dear Dav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At the weekend, I usually _________(go) running for half an hour. Then I _______ (play) football. My mother _______________(not watch) our games but my father __________ (watch) them. I ______ (be) good at football. ________ (be) you good at football? In the evenings, we often ________ (have) dinner at my grandparents’ home. Sometimes, we _______ (eat) in a restaurant. Write so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Sim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4340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576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2286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oesn’t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2666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w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724280" y="27432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905120" y="2971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609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5105520"/>
            <a:ext cx="830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______ Andy _______ (take) a bus to school every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______ your friends _______ (write) e-mails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. What ______ the dog ______ (do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5105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oes               t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55627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o                     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6172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ahoma"/>
              </a:rPr>
              <a:t>does                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2971800" y="2438280"/>
            <a:ext cx="4114800" cy="247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See you .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4114800" cy="6858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nny’s bed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23622" t="14252" r="52498" b="47509"/>
          <a:stretch/>
        </p:blipFill>
        <p:spPr>
          <a:xfrm>
            <a:off x="0" y="3505320"/>
            <a:ext cx="1447920" cy="312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rcRect l="67194" t="24706" r="16800" b="52257"/>
          <a:stretch/>
        </p:blipFill>
        <p:spPr>
          <a:xfrm>
            <a:off x="2895480" y="4495680"/>
            <a:ext cx="1621080" cy="1981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rcRect l="23622" t="0" r="56699" b="84563"/>
          <a:stretch/>
        </p:blipFill>
        <p:spPr>
          <a:xfrm>
            <a:off x="0" y="2133720"/>
            <a:ext cx="1295280" cy="1430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77694" t="21377" r="0" b="47509"/>
          <a:stretch/>
        </p:blipFill>
        <p:spPr>
          <a:xfrm>
            <a:off x="3962520" y="4191120"/>
            <a:ext cx="1523880" cy="26668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rcRect l="57745" t="23754" r="29398" b="54635"/>
          <a:stretch/>
        </p:blipFill>
        <p:spPr>
          <a:xfrm>
            <a:off x="2209680" y="4191120"/>
            <a:ext cx="97956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43572" t="19952" r="33071" b="64611"/>
          <a:stretch/>
        </p:blipFill>
        <p:spPr>
          <a:xfrm>
            <a:off x="1219320" y="3733920"/>
            <a:ext cx="1600200" cy="1676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rcRect l="43572" t="0" r="33071" b="78389"/>
          <a:stretch/>
        </p:blipFill>
        <p:spPr>
          <a:xfrm>
            <a:off x="1219320" y="21337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rcRect l="67194" t="16629" r="23622" b="73635"/>
          <a:stretch/>
        </p:blipFill>
        <p:spPr>
          <a:xfrm>
            <a:off x="3048120" y="35053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410080" y="1066680"/>
            <a:ext cx="268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b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205740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book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048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rad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40384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a table and a c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54100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two pi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0"/>
          <a:srcRect l="70872" t="473" r="13128" b="73635"/>
          <a:stretch/>
        </p:blipFill>
        <p:spPr>
          <a:xfrm>
            <a:off x="3581280" y="1828800"/>
            <a:ext cx="145728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305920" cy="76212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38280" y="5334120"/>
            <a:ext cx="243864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l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0" r="0" b="47509"/>
          <a:stretch/>
        </p:blipFill>
        <p:spPr>
          <a:xfrm>
            <a:off x="5105520" y="838080"/>
            <a:ext cx="4038480" cy="6019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rcRect l="87408" t="18514" r="0" b="39671"/>
          <a:stretch/>
        </p:blipFill>
        <p:spPr>
          <a:xfrm>
            <a:off x="609480" y="990720"/>
            <a:ext cx="1752840" cy="1143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666880" y="106668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 m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266688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3200" spc="-1" strike="noStrike">
                <a:solidFill>
                  <a:srgbClr val="ff6600"/>
                </a:solidFill>
                <a:latin typeface="Times New Roman"/>
              </a:rPr>
              <a:t>isn’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57200" y="2590920"/>
            <a:ext cx="1752480" cy="1218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90920" y="40384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99ff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a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5"/>
          <a:srcRect l="79689" t="78242" r="10080" b="9679"/>
          <a:stretch/>
        </p:blipFill>
        <p:spPr>
          <a:xfrm>
            <a:off x="685800" y="4114800"/>
            <a:ext cx="1447920" cy="1027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rcRect l="11630" t="56702" r="23260" b="0"/>
          <a:stretch/>
        </p:blipFill>
        <p:spPr>
          <a:xfrm>
            <a:off x="457200" y="5334120"/>
            <a:ext cx="1676520" cy="1130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533520"/>
          <a:ext cx="9144000" cy="5938560"/>
        </p:xfrm>
        <a:graphic>
          <a:graphicData uri="http://schemas.openxmlformats.org/drawingml/2006/table">
            <a:tbl>
              <a:tblPr/>
              <a:tblGrid>
                <a:gridCol w="1938240"/>
                <a:gridCol w="1692360"/>
                <a:gridCol w="1687680"/>
                <a:gridCol w="1777680"/>
                <a:gridCol w="20480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 my bed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 your bed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 his/her bed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in your living 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 frid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 sof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nima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pictur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 compu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a 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boo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rcRect l="77694" t="26132" r="0" b="49886"/>
          <a:stretch/>
        </p:blipFill>
        <p:spPr>
          <a:xfrm>
            <a:off x="4114800" y="3962520"/>
            <a:ext cx="2743200" cy="2895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rcRect l="70872" t="473" r="13128" b="73635"/>
          <a:stretch/>
        </p:blipFill>
        <p:spPr>
          <a:xfrm>
            <a:off x="3581280" y="914400"/>
            <a:ext cx="2749680" cy="3048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763120" cy="762120"/>
          </a:xfrm>
          <a:prstGeom prst="rect">
            <a:avLst/>
          </a:prstGeom>
          <a:solidFill>
            <a:srgbClr val="ffffff">
              <a:alpha val="4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4"/>
          <a:srcRect l="23622" t="14252" r="52498" b="47509"/>
          <a:stretch/>
        </p:blipFill>
        <p:spPr>
          <a:xfrm>
            <a:off x="0" y="274320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rcRect l="23622" t="0" r="56699" b="84563"/>
          <a:stretch/>
        </p:blipFill>
        <p:spPr>
          <a:xfrm>
            <a:off x="0" y="1447920"/>
            <a:ext cx="1523880" cy="1447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rcRect l="43572" t="0" r="33071" b="78389"/>
          <a:stretch/>
        </p:blipFill>
        <p:spPr>
          <a:xfrm>
            <a:off x="1523880" y="144792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7"/>
          <a:srcRect l="43572" t="19952" r="33071" b="64611"/>
          <a:stretch/>
        </p:blipFill>
        <p:spPr>
          <a:xfrm>
            <a:off x="1523880" y="335268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8"/>
          <a:srcRect l="57745" t="23754" r="29398" b="54635"/>
          <a:stretch/>
        </p:blipFill>
        <p:spPr>
          <a:xfrm>
            <a:off x="2514600" y="3657600"/>
            <a:ext cx="100476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9"/>
          <a:srcRect l="67194" t="24706" r="16800" b="52257"/>
          <a:stretch/>
        </p:blipFill>
        <p:spPr>
          <a:xfrm>
            <a:off x="3276720" y="3809880"/>
            <a:ext cx="1535040" cy="27432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0"/>
          <a:srcRect l="67194" t="16629" r="23622" b="73635"/>
          <a:stretch/>
        </p:blipFill>
        <p:spPr>
          <a:xfrm>
            <a:off x="3276720" y="28195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523880"/>
            <a:ext cx="372960" cy="373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2057400" y="4038480"/>
            <a:ext cx="372960" cy="373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2133720" y="1523880"/>
            <a:ext cx="372960" cy="373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3962520" y="4648320"/>
            <a:ext cx="372960" cy="372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9"/>
          <a:stretch/>
        </p:blipFill>
        <p:spPr>
          <a:xfrm>
            <a:off x="3886200" y="2971800"/>
            <a:ext cx="372960" cy="3729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765840" y="1447920"/>
            <a:ext cx="237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中的这些物品都在什么位置？你能描述它们的位置关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162920" y="12193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218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904760"/>
            <a:ext cx="74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puter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15000" y="27432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93440" y="47242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……上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5562720"/>
            <a:ext cx="61880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computer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038480" y="3428640"/>
            <a:ext cx="175284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2362320" y="2971800"/>
            <a:ext cx="1600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on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hecker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5410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case is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next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6320" y="32004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相邻，紧挨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6019920" y="39625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71600" y="4419720"/>
            <a:ext cx="419112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bookcase       </a:t>
            </a:r>
            <a:r>
              <a:rPr b="1" lang="en-US" sz="4000" spc="-1" strike="noStrike">
                <a:solidFill>
                  <a:srgbClr val="ff99ff"/>
                </a:solidFill>
                <a:latin typeface="Arial"/>
              </a:rPr>
              <a:t>next 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895800" y="339084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35"/>
                </a:lnTo>
                <a:cubicBezTo>
                  <a:pt x="10800" y="10035"/>
                  <a:pt x="5400" y="10935"/>
                  <a:pt x="0" y="10935"/>
                </a:cubicBezTo>
                <a:cubicBezTo>
                  <a:pt x="5400" y="10935"/>
                  <a:pt x="10800" y="11835"/>
                  <a:pt x="10800" y="127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867280" y="2209680"/>
            <a:ext cx="2438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next to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hecker dir="horz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7467480" cy="761760"/>
          </a:xfrm>
          <a:prstGeom prst="rect">
            <a:avLst/>
          </a:prstGeom>
          <a:solidFill>
            <a:srgbClr val="ffffff">
              <a:alpha val="7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dio is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book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4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364840" y="46483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Narrow"/>
              </a:rPr>
              <a:t>在……下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019920" y="2743200"/>
            <a:ext cx="2286000" cy="2971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143000" y="5425920"/>
            <a:ext cx="60357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a radio </a:t>
            </a: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under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okc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3809880"/>
            <a:ext cx="2133360" cy="762120"/>
          </a:xfrm>
          <a:prstGeom prst="line">
            <a:avLst/>
          </a:prstGeom>
          <a:ln w="38160">
            <a:solidFill>
              <a:srgbClr val="99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8153280" y="380880"/>
            <a:ext cx="601920" cy="601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905120" y="2666880"/>
            <a:ext cx="2457360" cy="16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6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under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med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dz</cp:lastModifiedBy>
  <dcterms:modified xsi:type="dcterms:W3CDTF">2012-05-25T02:26:1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